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290B-97DA-42D3-9FFA-8F40BCBB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AEFE-52CD-43BD-AF14-86B4FC05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C1E9-E542-4199-AE5E-EC14C9CF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BF9D-3A7A-431C-B227-CDAA6109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6D9C-010E-4DB6-978E-1A41C6CC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F19C-A961-430F-8575-771D5A4D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3A05-479A-46D5-9A7B-E01B7951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7F07-B93F-4D96-9D64-F34E35C1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ECF1-2B2B-45AD-8D28-9D92E669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8B34-ADDD-455B-B819-DBBAE580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BEC1-4A46-445D-AA78-6F13C93F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FD22-B3B0-49B1-8A2A-2BA09075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378C-834B-4494-8EDF-95E46309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23BF-3DCB-4705-924B-B83411FA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D699-9541-4CEA-97A6-148D27D2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2D6B-BF10-4EB8-B405-39CFEDE1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5CFA-1698-4AC0-9E56-6CF93777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5363-788D-4732-874C-FE32D94D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4CC8-2E9C-4211-88AF-56243C43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0ACC-5027-4825-B747-21B38189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22B5-AB28-467F-863D-DFD01CCC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E371-E129-4841-8A38-CB42F94F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FCC0-C8A8-41B6-8510-3E7D2DA2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0325-E41B-4341-968C-6042B03E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AC62-C58A-49CB-9BD4-C0F0B55473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852480"/>
            <a:ext cx="9009000" cy="1052640"/>
            <a:chOff x="0" y="8524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960480"/>
              <a:ext cx="711360" cy="474840"/>
              <a:chOff x="290520" y="9604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9604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9604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382760"/>
              <a:ext cx="737640" cy="474840"/>
              <a:chOff x="414360" y="13827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3827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3827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3096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8524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6747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3538-574E-41D4-AF67-8EE2A1CA4B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ternetworldstats.com/stats1.htm" TargetMode="External"/><Relationship Id="rId2" Type="http://schemas.openxmlformats.org/officeDocument/2006/relationships/hyperlink" Target="http://www.internetworldstats.com/stats3.ht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Sıtkı Coşk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ürkiye Bankalar Birliğ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Mayıs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Kullanı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 ile 12 Nisan 1993 tarihinde tanışan Türkiye’de kullanıcı sayısı 17 milyona, İnternete bağlı bilgisayar sayısı 700 bine ulaştı.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TÜİK 2006 Ocak ayı raporuna göre şirketlerde bilgisayar kullanımı oranı yaklaşık % 88, internet erişimi oranı % 80’lere ulaşmışt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*Kaynak: </a:t>
            </a:r>
            <a:r>
              <a:rPr b="0" lang="tr-TR" sz="1800" spc="-1" strike="noStrike" u="sng">
                <a:solidFill>
                  <a:srgbClr val="333399"/>
                </a:solidFill>
                <a:uFillTx/>
                <a:latin typeface="Tahoma"/>
              </a:rPr>
              <a:t>http://www.turk.internet.com/haber/yazigoster.php3?yaziid=179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3387-24F9-446A-BD99-4E2DFAAF18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Kullanı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4360" y="2492280"/>
          <a:ext cx="7619760" cy="35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492280"/>
                    <a:ext cx="76197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755640" y="206064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Hanehalkı Bireylerin İnternet Kullanma Amaç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616572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6078600"/>
            <a:ext cx="71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* Kaynak: Türkiye İstatistik Kurumu (TÜİK)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BF93-6AD4-4A81-950D-F3F3861EDD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Türkiye Bankalar Birliği verilerine göre Mart 2007 dönemind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bankacılığı için kayıtlı bireysel müşteri sayısı: 17.385.363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Ocak-Mart 2007 döneminde en az bir kez internet bankacılığı işlemi yapmış bireysel müşteri sayısı: 3.059.573  (oranı: %1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bankacılığına kayıtlı kurumsal müşteri sayısı: 852.3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Ocak-Mart 2007 döneminde en az bir kez internet bankacılığı işlemi yapmış kurumsal müşteri sayısı: 404.350  (oranı: % 4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Son 3 ayda kurumsal müşterilerin internet bankacılığı kullanım oranı, bireysel müşterilere göre daha yüksek olmuşt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EDC6-EC9E-4FD2-A018-12B5137DA2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569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Mart 2007 itibariyle, internet bankacılığı hizmeti kullanılarak yapılan yatırım işlemleri dışındaki finansal işlemlerin toplam adedi 45 milyon, tutarı 115,7 trilyon YT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Mart 2006 ile karşılaştırıldığında finansal işlem adedinde % 30.5; toplam tutarda ise % 55.7 artış olmuştu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EFT, havale ve döviz transferi işlemlerini kapsayan para transferleri işlemleri, finansal işlem hacminin % 88’ini oluşturmaktadı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444960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00000" y="5084640"/>
            <a:ext cx="7344000" cy="15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CE9A-DCA6-4916-82D3-1FB46D445B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136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444960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2060640"/>
            <a:ext cx="842472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Ocak-Mart 2007 döneminde internet bankacılığı ile gerçekleştirilen 9.671 bin adet yatırım işleminin hacmi 38.128 milyon YTL olmuşt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Mart 2006 – Mart 2007 döneminde işlem hacminde 305 bin adet ve 3.048 milyon YTL tutarında bir artış gerçekleşmişt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2276640"/>
            <a:ext cx="80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4360" y="4437000"/>
            <a:ext cx="763272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9800-B8A1-458D-AF65-E49B4C2FB8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 Strateji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80629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Güvenlik ve Teknolo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Görsel Tasar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şlem Çeşitliliğ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Müşteri İlişkileri Hizmetle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Satış ve Tanıt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FB7A-86DD-47FB-A255-B32160CE62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ürkiye’de İnternet Bankacılığı- Tehditler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(Amaç: Teknoloji Yoluyla Kişisel Bilgilerin Ele Geçirilmesi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460872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h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ahte Site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rojan Horse (Truva Atı), Keylogger, Screen-Logger gibi Casus Program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Yüksek Kazanç Öneren e-posta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12000" y="1989000"/>
            <a:ext cx="2284200" cy="2087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116000" y="4869000"/>
            <a:ext cx="6551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06520" indent="-506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Müşterilere ait kişisel bilgiler, banka sistemine girilerek değil, bizzat müşterilerin bilgisayarlarına uzaktan erişilerek temin edilmekted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F529-4B2C-4580-AA53-003E7EEF040F}" type="slidenum">
              <a:t>1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6170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- Güvenli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4608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İnternet Bankac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ğ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’nda güvenli ortam, banka v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m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ü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teri taraf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dan beraberce yarat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an zincirlem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i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yap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nitel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ndedir.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Zincirin halkalarından birini banka, diğerini de müşteri oluşturu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84720" y="2205000"/>
            <a:ext cx="2113200" cy="23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2DC6-6C51-4794-A197-7757C338CB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404640"/>
            <a:ext cx="7792920" cy="13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alar Tarafından Sunulan Güvenlik Seçenekleri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215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ek kullanımlık şifre, Mobil İm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işlemlerinde sınırla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ara transferi gerektiren işlemler için limit belirlem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ara transferi işlemleri için SMS ile uyarı mesajı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eylogger, Screen-Logger gibi casus programları engellemek için özel yazılım programları (Örnek: Güvenlik Çember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anal klavy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arşılama mesaj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şlem, zaman, servis sağlayıcı, IP sınırlaması</a:t>
            </a:r>
            <a:br>
              <a:rPr sz="2400"/>
            </a:b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9299-954D-4255-B693-5BE1E976DA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1844640"/>
            <a:ext cx="82152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844640"/>
            <a:ext cx="82152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Her şeyden önce bankanın sunduğu güvenlik seçeneklerini iyi tanımalı ve bunlardan kendisi için en uygun olanını seçip kullan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Şubesine güvenli giriş için öncelikle Bankanın internet şubesine güvenli yoldan girilmesi gerekmekted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unun için müşteriler tarafınd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ankanın internet adresi tarayıcı programının adres çubuğuna yazılmalı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sitesine e-posta ile gelen ya da arama motorları ile ulaşılan linkler üzerinden giriş yapılmamalı 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ullanılan internet tarayıcısının güncel olduğu ve tüm güvenlik ayarlarının yüklenmiş olduğu kontrol edilmelidir.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68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ünd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820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İ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in Tarihçe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Dünyada İnternet Kullanım Oran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ürkiye’de İnternet Kullanım Oranı ve Amaç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ullanım Oran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tratej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ehdit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Güvenlik Önlem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anka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Müşter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5F9D-06D2-4E26-B849-2B047A6CFF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2060640"/>
            <a:ext cx="82072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ilgisayarda virüslere ka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sürekli olarak en güncel anti-virüs, anti-spy ve firewall yaz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la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yüklenmeli ve belli ara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klarla güncellen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İçerik sa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ay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dan emin olunmayan internet sitelerine  girilmemeli, tan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mayan k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lerden gelen e-postalar açılma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-posta ve bunun gibi kanallarla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k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sel bilgilerin      gönderilmemesine dikkat ed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Hesaplar düzenli olarak kontrol edilmeli ve herhangi bir hata  tespit edildiğinde ivedilikle bankaya bildir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989000"/>
            <a:ext cx="7991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parolanın belli periyotlarla d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tirilmesi ve belirlenecek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nin kolay tahmin edilebilir olmamasına dikkat ed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er banka ya da d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r internet siteleri için farklı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parola kullanıl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Şifre ve parola, 3. şahısların ulaşabileceği şekilde, herhangi bir yere yazılmamalı ve yazılı olarak cüzdanda ya da çantada taşınma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Şifre ve parolanın 3. kişilerin eline geçmesi ya da bundan şüphe duyulması durumunda derhal bankaya bildir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eşekkür ederiz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8708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İ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, bilgisayar sisteminin birbirine bağlı olduğu dünya çapında yaygın olan ve sürekli büyüyen bir iletişim ağı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lgiye ulaş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lgiyi paylaşım 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elde edilen bilgiyi kullan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platformudur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0CAB-214A-4B3F-9D5E-97D35614C5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6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in temelleri, 1960lı yılların başında askeri amaçlarla ARPANET adı altında atılmışt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2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J.C.R Licklider “Massachusettes Institute of Technology” (MIT)’d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“Galaktik Ağ” kavramını geliştirdi. Bu kavram, küresel olarak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ağlanmış bir sistemde herhangi bir yerden istenilen veriler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erişme imkanını ifade etmektey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5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MIT’de bilgisayarlar ilk kez birbirleriyle “konuşturuldu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9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lk geniş alan ağı olan ARPANET, DARPA (Defence Advanced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Projects Agency) bünyesinde askeri amaçlarla geliştiril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ynı dönemde, 4 farklı merkezdeki bilgisayarlar arasında bağlantı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rularak internetin ilk uygulaması gerçekleştiril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1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RPANET, Ağ Kontrol Protokolü (NCP-Network Control Protokol) il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çalışmaya başla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2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E-posta ilk defa ARPANET içinde kullanılmaya başlan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648E-69E8-4F53-9FD8-20A2747091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 – 2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3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lk araştırmalarda, kullanıcı sayısı yaklaşık 2.000 kişi, e-posta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llanım oranı ise % 75 olarak tespit edilmiştir. ARPANET’e ilk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uluslararası bağlantı sağlanmışt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3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RPANET, İletişim Kontrol Protokolü (TCP/IP- Transmission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Control Protokol/Internet Protokol) ile çalışmaya başladı. TCP/IP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ugünkü İnternet ağının da ana halkasını oluştur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5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merikan askeri bilgisayar ağı ARPANET’ten ayrıl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7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merika’da hükümet desteği ile 7 bölgesel nokta üzerinde NFSNET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dı altında İnternet yapılanması sağlan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90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NFSNET’in işletilmesi sürecine IBM ve MCI gibi özel şirketlerin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atılımıyla İnternetin özelleştirilme süreci başladı ve ARPANET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llanımdan kaldırıl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95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BD’de internet işletimi tamamen özel sektöre geçirildi ve WEB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sayfaları hazırlanmaya başlan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2000ler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hızla gelişerek, günlük hayatımızın her alanında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vazgeçilmez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ir yer edinmiştir</a:t>
            </a:r>
            <a:r>
              <a:rPr b="0" lang="tr-TR" sz="19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BEBE-48ED-4366-ACA4-51C8804F7B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 -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2808360" cy="3092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84720" y="2133720"/>
            <a:ext cx="3959280" cy="3240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66100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9 - İlk İnternet hattı tasarım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5661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Günümüzdeki İnternet hatlarının görünüm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6DF6-D510-48EA-A615-2B5E1743A3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yada Kullanım Oran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989000"/>
            <a:ext cx="84960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Dünyada İnternet kullanım oranı 2000-2007 döneminde % 208,7 oranında art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Dünyada İnternet kullanan nüfus 1 milyarı aş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Toplam dünya nüfusunun yaklaşık %17’si internet kullanmakt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4000" y="3716280"/>
          <a:ext cx="8424360" cy="2604960"/>
        </p:xfrm>
        <a:graphic>
          <a:graphicData uri="http://schemas.openxmlformats.org/drawingml/2006/table">
            <a:tbl>
              <a:tblPr/>
              <a:tblGrid>
                <a:gridCol w="1970640"/>
                <a:gridCol w="1199160"/>
                <a:gridCol w="1072800"/>
                <a:gridCol w="1192680"/>
                <a:gridCol w="1197720"/>
                <a:gridCol w="894960"/>
                <a:gridCol w="896400"/>
              </a:tblGrid>
              <a:tr h="29196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WORLD INTERNET USAGE AND POPULATION STATISTICS 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World Reg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 2007 Est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of Wor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Internet Usage,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test D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 Penetration 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sage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of Wor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sage Growth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00-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Afr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933,448,2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4.2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3,334,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.6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38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  <a:hlinkClick r:id="rId2"/>
                        </a:rPr>
                        <a:t>As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,712,527,6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6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98,709,0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5.8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48.8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ro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09,624,6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2.3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14,792,2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8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8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9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ddle Ea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3,452,7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,424,7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91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th Amer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34,538,0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.1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33,188,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9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15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tin America/Caribbe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56,606,6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96,386,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7.3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33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eania / Austral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4,468,4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0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8,439,5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3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42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WORLD 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,574,666,4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,114,274,4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6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8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468360" y="6453360"/>
            <a:ext cx="712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imes New Roman"/>
              </a:rPr>
              <a:t>* Kaynak: </a:t>
            </a:r>
            <a:r>
              <a:rPr b="0" lang="tr-TR" sz="1800" spc="-1" strike="noStrike" u="sng">
                <a:solidFill>
                  <a:srgbClr val="333399"/>
                </a:solidFill>
                <a:uFillTx/>
                <a:latin typeface="Times New Roman"/>
              </a:rPr>
              <a:t>http://www.internetworldstats.com/stats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8714-2529-4616-A5D2-4DFE536233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Dünyada Kullanım Oranlar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0000" y="2781360"/>
          <a:ext cx="727236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81360"/>
                    <a:ext cx="727236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042920" y="20606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ölgelere göre internet kullanıcısı oran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8E5A-9170-4493-81F3-BAE761D801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vrupa’da İnternet Kullanım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03640" y="2781360"/>
            <a:ext cx="3951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Şube kullanımını etkileyen faktörl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Şube dışı kanalların daha ekonomik olmas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Erişim kolaylığı (7/24 saa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Yeni neslin teknolojiye yatkınlığ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Aylık şube kullanımı son 5 yılda genç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nüfusun bankacılık hizmetlerin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yararlanmaya başlanması 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%55’ten %40’a düşmüştü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989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deneyimi arttıkça diğer kanalların kullanımı düş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4000" y="2852640"/>
          <a:ext cx="4537080" cy="31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852640"/>
                    <a:ext cx="45370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24000" y="2565360"/>
            <a:ext cx="45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333399"/>
                </a:solidFill>
                <a:latin typeface="Tahoma"/>
              </a:rPr>
              <a:t>İnternet Bankacılığının Kanal Kullanımı üzerindeki etki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3213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371628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0000"/>
                </a:solidFill>
                <a:latin typeface="Arial"/>
                <a:ea typeface="Arial"/>
              </a:rPr>
              <a:t>Şube Kullanım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4437000"/>
            <a:ext cx="10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cc00"/>
                </a:solidFill>
                <a:latin typeface="Arial"/>
                <a:ea typeface="Arial"/>
              </a:rPr>
              <a:t>İnternet Bankacılığ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86900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66ffff"/>
                </a:solidFill>
                <a:latin typeface="Arial"/>
                <a:ea typeface="Arial"/>
              </a:rPr>
              <a:t>Şubeye danış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486900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ff33cc"/>
                </a:solidFill>
                <a:latin typeface="Arial"/>
                <a:ea typeface="Arial"/>
              </a:rPr>
              <a:t>Çağrı merkezi/IV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87640" y="4724280"/>
            <a:ext cx="7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333399"/>
                </a:solidFill>
                <a:latin typeface="Arial"/>
                <a:ea typeface="Arial"/>
              </a:rPr>
              <a:t>Şubeye yazılı başvur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623736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58920" y="5950080"/>
            <a:ext cx="23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333399"/>
                </a:solidFill>
                <a:latin typeface="Arial"/>
                <a:ea typeface="Arial"/>
              </a:rPr>
              <a:t>İnternet Deney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6093000"/>
            <a:ext cx="5968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6093000"/>
            <a:ext cx="6490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5950080"/>
            <a:ext cx="268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6381720"/>
            <a:ext cx="39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333399"/>
                </a:solidFill>
                <a:latin typeface="Tahoma"/>
              </a:rPr>
              <a:t>Kaynak: Copyright IBM Corporation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AAA6-5461-4891-912C-4358002909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21:35:40Z</dcterms:created>
  <dc:creator>Tugba</dc:creator>
  <dc:description/>
  <dc:language>en-US</dc:language>
  <cp:lastModifiedBy>T. İş Bankası A. Ş.</cp:lastModifiedBy>
  <dcterms:modified xsi:type="dcterms:W3CDTF">2007-05-17T12:22:41Z</dcterms:modified>
  <cp:revision>75</cp:revision>
  <dc:subject/>
  <dc:title>İNTERNET BANKACILIĞI</dc:title>
</cp:coreProperties>
</file>